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73A-FD03-4BA6-BD56-14910D03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5E7-7ECB-4386-9386-BF667159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08F5C-5F4A-498D-B6A9-D6C98702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493C9-B554-4621-B471-8B61137D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111A6-158D-4DB4-90EA-B6164AFB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323B8-2998-4BE4-8D94-4866F1C4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0A0B1-DBCA-44FF-9C3B-FA776A87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FFC14-B4B2-4F76-A0B3-4AC2F84F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5C540-9403-474D-8FC5-770EBA4C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C1C16-E941-4A50-BD02-A857374D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5CC99-2AB3-47D2-9906-D8CCED54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39E72-F8E4-4F0A-A31A-4973E6A7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3AF-4B80-4A8A-AA2D-AF88EA09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82906-F9CE-4606-96DC-7785B1A5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FBE59-5A99-4116-B743-27320F46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66A7C-BDCF-40E3-8EEC-95BEDC0A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7B3BD-6558-4282-8290-026744BA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74B95-94FB-44ED-92CB-0665B79F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BF9F8-1232-4805-9683-E4161E3E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7FC2F-D92F-4DF8-9B76-CB541D6C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F8A00-5D2D-46AF-BF46-F859E98D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A774B-B662-4881-8113-2B1F11F3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B3AFA-7030-43BF-9FEB-54D6757A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F29-4BD4-4CBE-BD00-B075D439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28174-4477-4787-9522-2B9155A2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3D233-EC51-42BF-8C19-23BEEFF1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B379E-7A37-42B3-BEFF-A2579F5E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2C9F7-16A4-472B-9C55-1044902E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FFDBF-8BA3-4A0C-A5D9-BB0E22AD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D07D1-4E0F-4624-895C-B8BF69C3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CDE67-BFEC-4B1F-9C64-F37F3F3D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ED72D-2E30-47E7-B791-EA2425E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66D74-1C15-4F03-B24A-36927C6A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7C58F-6380-43C1-A757-229CDCC3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6D73-DBBD-4944-9A63-CE085F64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81781-DEF2-4000-BD88-ED69A784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27150-08FA-4107-AA60-5EFE6B5B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4FAFD-98F8-465E-ACC9-78945CCB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E4BBB-DD91-4FB3-A40D-BF0A043A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2F295-7921-4BA9-AC9D-E453D13E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7A694-C112-47B9-B339-6EB21671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2076A-D499-4445-9ED2-524C0254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73C92-0432-41A3-AD9B-E2F16FC7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546F6-B204-4370-BC4E-066F58B6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D2B57-8A5A-4F9B-BC4A-CDE4F7CB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2129-EAE0-4CA1-B80A-FEA5273A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0FA93-38FC-423D-AED4-AF6A64FE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575F8-0F38-48CA-B14D-99590B1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1C7E9-5E82-4017-AEC9-14B6C6C8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A6DBB-FF7D-4261-A5B9-F1F0C952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BDF8F-AD32-4575-8C9A-F1F2C4AC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B713F-758B-490D-92C3-5CF4D8EF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0EB7F-2085-419F-9880-A6176825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8C11E-BD7E-4CF0-B2BF-03691908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41258-AEDE-4913-91B7-0600E873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96AC0-5809-4A70-9BDC-CB57FE02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E686-6AAA-4D46-9398-57C038BB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7B98A-A4E7-4FC8-83C4-8CAC3A87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2D1F8-A150-4CBE-A7B0-B0FE825C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9A578-8550-479E-8166-29734DF9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B1F69-848F-4E9A-A311-C8CE7130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82924-96FE-4861-971D-E877CCA9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936EF-71EB-4F7D-8ABD-2088503F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83BFD-DAA0-47B4-8062-A271BE4B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39ECB-667C-4CD6-A044-0B1AC5F4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28162-CFCA-4D76-B729-C7534106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3A328-42B5-4663-B12E-C0CEC391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8D02-C695-4C73-8C10-0A0DC578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20182-94A7-4632-A6EA-9CB19550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EF6A4-9BB2-4261-A920-BED231C3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4179F-6CBB-4ABB-A954-18B4F4CE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3D1AF-070F-438E-BBF3-38FF5AE8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A5CD1-6690-4B94-BF90-D219E740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D2280-2F3F-4206-9CDF-560A2803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6C5FD-58CF-4731-83AB-EA2F97B9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41746-589A-4DC2-9636-AD596B1D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30A00-AC6D-4E90-BBC4-9EDA98E9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941A3-1B70-4FAD-A3D0-D1B9160D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5BA2-6DE0-4D4F-8230-D6EACA6E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B4B75-150D-40E0-9235-65536D6D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76CB8-3E09-4D0C-B2AC-297A7888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EF1ECE-0FC2-4ACF-A7AF-06AABF78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D6806-7060-4D5C-829E-CD002F19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3BB72-91EE-4CA6-BD53-7BF4F780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E58423-B158-4FB6-9D28-EDC1B48D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52DBE-6124-4791-B2E7-ED321EBC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B6B0D-4043-49B3-A60A-0EF7084B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9617F-37EF-4940-9964-81E586C5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6E7B0-BAB7-4A58-AD88-B0A9E686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EF43-EE1E-47E3-B241-29D6FB76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9803B5-AE0A-42B0-BA78-97B1FA6B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6860A-9152-4836-A87E-0073039F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B7EDC-0385-4A4A-8B91-1EE7659B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DC701-58C6-47E6-BC53-A86A2E54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DF26EB-46CD-4DFB-9600-8C9F55A8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88A45D-79AF-4BC0-9418-7607F1E3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8F4AA-F1A1-42BC-8804-DCAC39E2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DF0ED2-9526-4B50-AB0F-A774385D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86514-E29C-4FE3-86BD-6DCFAB40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9BF84-E25C-433C-BEE7-1518E7E1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2C18-F8CA-458B-9069-789D7BBB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515BC-5152-4F75-AB05-0D6930A7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6AA809-F3DE-4DD3-A3C7-77FAF515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FD154-A3B6-4AEC-8134-A2D54E71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DED879-F13A-4F39-B034-EC471BBF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B61D66-0EA1-4794-87AC-3773882B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3CB16A-33C5-4DEC-B107-B858BE5F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8136D-D2DC-4EE6-BF0B-2A324D6A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E222E-B5D5-46CE-8863-18207EDF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A8D165-8C17-40D8-9C0F-8CB4B1B2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B142E-7E23-4540-91EE-9F0029E3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34D-7B29-4561-AF2C-7DB8A93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A255-2D52-421D-9E99-97657A5F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129E1-C7C5-4E48-99C1-6ABD64A9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C0FA0B-2817-4AF1-B756-367DC67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1F8FD-7D7A-4EE4-BF25-CADA621D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92B4A-13CF-47E4-8E35-B03B6A60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D7835-3B8C-4B26-8FFC-7E71FB90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94615-A0A6-4422-8750-D093728E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3E5D7-0279-43BA-BA68-B17171AF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92B13-AFD5-4B5A-8924-498ED200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6F47A-7993-4244-A3E5-9F2A9CF9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3C155F-63C9-4E4B-8480-F19389E3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885E-3C6B-4591-B590-FC3EA960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7780C-47BD-4EA1-83B2-652E6443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DA3AE-08F0-44AC-A972-C2D80598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09F346-1656-4F94-B5D5-A969E1BC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0EDCD3-8714-4A44-88FB-D14C7710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F6EA6D-671E-49DB-A38D-BE561E8A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708F41-E896-4D29-952A-35F67894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7DA790-AFCA-4B37-B859-0DEC900F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2E44C9-D3A8-42C9-B189-57F84A6C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FDA14-0ABE-48B6-839D-5E6022FD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59AA78-2816-43E3-A4E4-C88B6951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41DF-02F7-406C-87E1-0BF2A50A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69A8C1-1684-4B41-89BC-822427AA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4BCC19-9AF4-4527-A440-ABD610C4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152F4-775D-407D-9AAD-9F24E548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571CC2-B721-45A7-A3B8-EEC63369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7239E5-A2A4-45CB-AE40-6C3EA664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571F83-0C1A-4986-9386-FF3398EC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3E8C80-BFED-4CF5-8BA6-857198A3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89035F-7ABE-453E-8890-7D555B3D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3225BF-41B0-41DD-9A54-A4AD1E4B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925AB6-E940-4511-BAB5-AF360F21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F92C-2E7B-428A-8809-697DEC36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C99873-2BAA-423A-B41A-A616C601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EA8B22-8147-4B1A-8626-2478B3D7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4CA95-38D2-4CF3-B776-7328276E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64B163-6AB0-4CF6-9A01-406EED10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6855C3-21FB-45F1-9FCE-4AFA85CA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538EA3-037B-4B68-9355-2EA98D22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124368-35C4-4C10-9821-EC6527BC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1A636A-29AF-4FD0-AB8A-2B98CE2C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1DD83A-BD67-40D9-B679-B1CEF5FE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036BFF-1282-4AA0-928F-017DF76F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EB89-7BFF-4091-848C-69EE9BDE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A480E6-FD0A-45ED-8E4A-907BA13A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A0BF94-5CC0-4855-A02C-A839040A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D15D65-093C-4A9F-A617-F0A53C4F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A215C-24F1-4A04-ADEB-D5C4C33A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BC2398-E32F-4959-9968-C8848839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E5B4ED-FAB2-4587-8ED9-040CE85E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AA1594-C3F7-4B84-9E90-4A0D8C5F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063365-C468-4464-B60F-F8CC3042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6745A3-B9FB-4B3B-8DD6-AB14A1B9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9FB0D3-E2B7-43ED-9EED-30E09DFB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942C-4299-480A-909C-E00729CE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55C161-70E3-4226-803E-154DDF84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356FE8-1DF2-41DC-A471-E97BAEA6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1FF0F4-CD6F-48CB-8A35-CCD38DCB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77893-4F77-4EB5-95A4-9ED08153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F4D7-115F-4CE5-97EA-DD7F59D1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1145B-5910-4688-9AE5-0E753005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1072-A446-4050-8F8C-98F8A160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83C-BFCB-4BA7-A2F9-1893A4D9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9A85A-6A7E-4F49-8C86-691D2A2B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C8728-95D8-4326-A4FB-1F021FF3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4D774-F18B-475A-A02B-C58AF019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864B-06FA-479C-B145-67780C8E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4B573-3206-4D6A-A433-364CA759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C0E04-F932-48E3-869B-5D859A0A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2FB4-28E1-46FA-899E-47A86A99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B6D74-BC2D-4B2D-AD7C-D65262D1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49983-673F-4340-A6E8-3A67B3A2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7FE65-1DD2-4B25-9E24-C0D257A9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AE5-0C76-4FA2-BD9C-02186A15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E3762-F033-4E2C-8230-F43FBB64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DB3C-6E03-44FB-867F-1CCBDA56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E7D8E-EB5E-4FD5-84D1-AD744B36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78C62-0F64-4F7D-967A-47CF5A0C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90944-6E56-4050-84D3-BAC72701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B3B4D-8DB1-4E4C-8E46-5532783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936C8-117C-465F-9DD7-9EB40230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B1E3-5F5C-47DA-95DE-10F419A3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E3673-B9CF-4B33-B201-6D27D999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7B43A-5BDB-4C97-8E08-89E6D16B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72D-A20C-4904-A1AC-3E217B4A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253D3-6116-4B2E-9ED3-49F16CED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F6713-1990-40AF-8B87-CA453048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DDE70-03BC-4D84-9E18-FFB54338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250BB-DB74-4C78-892B-49189DDB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68540-2939-49E1-B8FF-0F146138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1256C-F182-45FD-8C84-0F9E8CDE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1711A-8B82-4358-A5CD-0DE572B2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D5CBE-ADF7-452E-AC52-577E0F98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5BC5-DDF4-497E-A3E0-BB67E555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3BE7E-99C6-421D-8D03-708ADD60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732-A78F-460E-8ABF-0A8CB19D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EE0D7-B9A7-43DD-82DF-6A7A2387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06277-B5DD-48AF-9040-7C70C6F6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3314B-C225-4B5B-B594-2E5D1E5D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224BB-E8CB-4694-A334-89B1335D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FA60B-7074-47F0-BF4A-0CD96735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5215B-72BF-4CA9-A06B-4F00DA4B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98D9D-D8D5-4690-ABD7-43AF8A86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8F99C-E0A3-4EDD-823F-3BA9EB85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507D3-88AC-4817-AF68-E8F65725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49444-808A-47B6-BD8D-87C1DB23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DAF-E679-4276-B352-17621383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AE724-5709-43B9-B0C8-B0AE579A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D8222-B595-49F8-9DD2-BF17CF32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ED033-12F9-44D5-9064-61DDC993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CBBBF-67C8-4102-88EB-FC2B03C8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E7B90-CE26-49AC-9FD1-94750203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6DC9F-1110-45F9-AA61-C412765D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5B9D7-41D8-4A42-B56C-B2978ABB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93DEF-0EAC-4E40-9121-4B85CA5E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7CD47-319A-43A2-99AA-698C3FE8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C0BC6-270D-4A52-A54A-8385CB52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2F0-F411-434F-8EB2-38D8834B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3E42D-EF2D-4F91-9645-4F3B8FFA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040E8-6EF0-4A19-B796-E6EE1E08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D9AC2-2B9E-44FD-B7AF-F4045BF6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A57D4-FE89-4033-8A07-9A7C8BD7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10A8A-E8DF-44BE-B670-44D06437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90290-CF3E-4FED-BFB9-C6DB539A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8C2C5-6FE5-4F8E-8EFC-D8864A52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17F0D-6BE2-4914-901C-B1AA0282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98B6F-5D98-4088-8B47-DA58C1C3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C6267-EC4F-41DA-906C-7F3639E1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644-FF13-42A0-ABD3-A71F7212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54A09-EC57-458B-8759-59EF16B2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7D381-A786-4DE3-AEFD-60D82F58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F781C-C3FD-452D-BDF4-B9EA610B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C71B1-4692-440C-B051-C0B03EAC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73EBE-E71E-4AF0-9102-28783474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1E553-E8E4-4A89-AA48-8CF252B3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ABED2-FEA0-472A-AE64-921A7DEA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A5300-EB02-47AA-BEFF-0EB49973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E6351-9F77-40CF-A271-744D3200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D878D-C1EA-4D97-B0FA-691D1121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80DB-342A-4D0A-BEBF-7529F33CE6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7B14-7707-4390-8638-3C9027F3FF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E0C4-A069-4F69-91B3-DC573A38B6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EB2F-4C0E-48F8-9993-C1E455C5C5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D032-D658-4250-B81C-0F83959A1A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5387-2AEA-4AAF-8AFA-3F3804F640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660E-E2BC-4633-9C04-2C7D0F888A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06A5-7817-487A-8F40-F907571C3F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9D87-A1E1-4CAC-ACC8-AA718C5EFE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93D5-BB74-4298-B92F-6AF7D89368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129D-A139-4DB8-A539-5FEC7A028D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C911-8595-4452-A768-9036ED33D2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9A2F-BC85-4611-8B2B-7779423F10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0F33-99E8-42D5-BBEA-82B085799F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B113-0632-45BB-950D-AAA07FD350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2C51-2DB4-426C-844E-1D8E4553F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9D3E-ED1A-4947-89F1-61FF699F91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55D0-FB35-4ACC-8097-B306464F5E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30FD-DE09-4B5B-B3FB-2E1B85B340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892B-8879-4B97-B567-343CA1B2AC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E70E-93D6-409C-8F87-C5388B3750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281E-0D47-418B-94A1-C2737C5D91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0306-32D3-4B86-BC3D-7412B09651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F17A-BD25-46DD-B7B4-B3F11086BC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F416-9DD0-4C9D-B2BD-71084FC871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F833-4285-4078-86CC-19D97EDDC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40C9-304E-4E2C-9F28-918FC38B59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D97C-A754-412C-8A74-05BC01FB2C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90F4-AB0C-4106-8805-65D3EF9902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541E-D2B7-4C9E-8AA8-556725243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E51A-04CC-4E04-806C-EF305956AB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C4F6-BDA0-4720-AF2F-F49D039FD3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EB64-40BA-4E9F-B9C9-82CD5DF0A1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EC65-7DF0-4E45-B21B-13C6B32689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72FD-B5C6-4670-AC81-DE495171D2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C274-5543-407C-A063-233D3E28F9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88E9-ED28-485C-AF46-E7215A2F3C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4551-9161-4E40-9CF4-097904190D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C5F7-D3BF-4864-88D8-30D6D7FE2F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6F37-621C-44B9-8832-B483C728D0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04840" y="2743200"/>
            <a:ext cx="6934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57040" y="1041480"/>
            <a:ext cx="8629920" cy="5267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547640" y="1585800"/>
            <a:ext cx="648000" cy="319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21164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510320" y="1628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971640" y="2060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427640" y="2060640"/>
            <a:ext cx="93636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236000" y="206064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908000" y="3025800"/>
            <a:ext cx="144000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1908000" y="3486240"/>
            <a:ext cx="144000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908000" y="3948120"/>
            <a:ext cx="144000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4140360" y="3040200"/>
            <a:ext cx="143964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4140360" y="3500280"/>
            <a:ext cx="1439640" cy="3193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4140360" y="3962520"/>
            <a:ext cx="143964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6588000" y="3040200"/>
            <a:ext cx="144000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6588000" y="3500280"/>
            <a:ext cx="144000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6588000" y="3962520"/>
            <a:ext cx="144000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1433520" y="49849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3549600" y="49989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5724360" y="49989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7956720" y="49989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1403280" y="5445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3519360" y="5459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3"/>
          <a:stretch/>
        </p:blipFill>
        <p:spPr>
          <a:xfrm>
            <a:off x="5694480" y="5459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4"/>
          <a:stretch/>
        </p:blipFill>
        <p:spPr>
          <a:xfrm>
            <a:off x="7926480" y="5459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5"/>
          <a:stretch/>
        </p:blipFill>
        <p:spPr>
          <a:xfrm>
            <a:off x="1403280" y="5935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6"/>
          <a:stretch/>
        </p:blipFill>
        <p:spPr>
          <a:xfrm>
            <a:off x="3519360" y="5950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7"/>
          <a:stretch/>
        </p:blipFill>
        <p:spPr>
          <a:xfrm>
            <a:off x="5694480" y="59500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8"/>
          <a:stretch/>
        </p:blipFill>
        <p:spPr>
          <a:xfrm>
            <a:off x="7926480" y="595008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9410" descr=""/>
          <p:cNvPicPr/>
          <p:nvPr/>
        </p:nvPicPr>
        <p:blipFill>
          <a:blip r:embed="rId1"/>
          <a:stretch/>
        </p:blipFill>
        <p:spPr>
          <a:xfrm>
            <a:off x="233280" y="1022400"/>
            <a:ext cx="8677440" cy="52862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3924360" y="1211400"/>
            <a:ext cx="3384360" cy="3189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3851280" y="1643040"/>
            <a:ext cx="3384720" cy="318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395280" y="4984920"/>
            <a:ext cx="3384720" cy="3189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324000" y="5445000"/>
            <a:ext cx="3384360" cy="3193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395280" y="5919840"/>
            <a:ext cx="4248000" cy="3189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8388360" y="3213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8"/>
          <a:stretch/>
        </p:blipFill>
        <p:spPr>
          <a:xfrm>
            <a:off x="8388360" y="36162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9"/>
          <a:stretch/>
        </p:blipFill>
        <p:spPr>
          <a:xfrm>
            <a:off x="8459640" y="39909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0"/>
          <a:stretch/>
        </p:blipFill>
        <p:spPr>
          <a:xfrm>
            <a:off x="8459640" y="4365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1"/>
          <a:stretch/>
        </p:blipFill>
        <p:spPr>
          <a:xfrm>
            <a:off x="8532720" y="47829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2"/>
          <a:stretch/>
        </p:blipFill>
        <p:spPr>
          <a:xfrm>
            <a:off x="8532720" y="5084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3"/>
          <a:stretch/>
        </p:blipFill>
        <p:spPr>
          <a:xfrm>
            <a:off x="8532720" y="5445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4"/>
          <a:stretch/>
        </p:blipFill>
        <p:spPr>
          <a:xfrm>
            <a:off x="8532720" y="587700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3:5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